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08BD1-6007-4219-BBBF-F47C94510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6DB90-FF33-4B6F-AB94-054510C6D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C7344-6406-4D3B-9326-F614E9408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30E04-9514-4A66-B2DC-766D90ABD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F793-8CFE-4DA9-B318-00FE17F4F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158B0-53D3-4018-8E82-12DCF9DFD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BBD80-EB15-487B-85B2-D2E044D23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B8922-9EDF-4132-8005-4E1C33703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61E8-EB29-43A9-877C-4110DF325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EAFF2-8CF3-4D11-9472-DD298BB9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D264C-C75E-4E7F-9981-25C9D1C0E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0E1C0-4AF9-40C1-95EF-50A634AA3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3254-F967-4583-8A04-A92480438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ds.yahoo.com/_ylt=A0PDoTEW895M9HUAlWqjzbkF/SIG=130fd33m9/EXP=1289766038/**http%3A//pregnant-ideas.com/wp-content/uploads/2009/08/egypt_palettenarmer.jpg"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630360"/>
            <a:ext cx="8344080" cy="6227640"/>
          </a:xfrm>
          <a:prstGeom prst="rect">
            <a:avLst/>
          </a:prstGeom>
          <a:ln w="0">
            <a:noFill/>
          </a:ln>
        </p:spPr>
      </p:pic>
      <p:sp>
        <p:nvSpPr>
          <p:cNvPr id="42" name=""/>
          <p:cNvSpPr/>
          <p:nvPr/>
        </p:nvSpPr>
        <p:spPr>
          <a:xfrm>
            <a:off x="914400" y="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p of Egypt’s Physiographic Fe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LE RIVER</a:t>
            </a:r>
            <a:endParaRPr b="0" lang="en-US" sz="4400" spc="-1" strike="noStrike">
              <a:solidFill>
                <a:srgbClr val="000000"/>
              </a:solidFill>
              <a:latin typeface="Arial"/>
            </a:endParaRPr>
          </a:p>
        </p:txBody>
      </p:sp>
      <p:pic>
        <p:nvPicPr>
          <p:cNvPr id="56" name="" descr=""/>
          <p:cNvPicPr/>
          <p:nvPr/>
        </p:nvPicPr>
        <p:blipFill>
          <a:blip r:embed="rId1"/>
          <a:stretch/>
        </p:blipFill>
        <p:spPr>
          <a:xfrm>
            <a:off x="1143000" y="1371600"/>
            <a:ext cx="6934320" cy="51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4680"/>
            <a:ext cx="8991720" cy="685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DITERRANEAN SE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terranean Sea is the world’s largest inland sea.  Surrounded by Europe, Africa, and Asia, it covers an area approximately of nine hundred and sixty-five thousand square miles.  The Mediterranean Sea connects with the Atlantic Ocean and the Black Sea by way of the Aegean Sea.  The shores of the sea are mainly mountainous.  Many species of fish, sponges, and coral are abundant in the sea.  The ancient Egyptians were originally afraid to sail on the Mediterranean, and so they relied on traders from other lands to bring them goods from Anatolia (Turkey) and Canaan.  Eventually, the Egyptians got over their fear and sailed the Mediterranean Sea doing their own tr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TERRANEAN SEA</a:t>
            </a:r>
            <a:endParaRPr b="0" lang="en-US" sz="4400" spc="-1" strike="noStrike">
              <a:solidFill>
                <a:srgbClr val="000000"/>
              </a:solidFill>
              <a:latin typeface="Arial"/>
            </a:endParaRPr>
          </a:p>
        </p:txBody>
      </p:sp>
      <p:pic>
        <p:nvPicPr>
          <p:cNvPr id="59" name="" descr=""/>
          <p:cNvPicPr/>
          <p:nvPr/>
        </p:nvPicPr>
        <p:blipFill>
          <a:blip r:embed="rId1"/>
          <a:stretch/>
        </p:blipFill>
        <p:spPr>
          <a:xfrm>
            <a:off x="685800" y="1447920"/>
            <a:ext cx="77724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762120"/>
            <a:ext cx="8610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IBYAN DESE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byan Desert is the northeastern part of Africa’s Sahara Desert, the largest desert in the world.  The Libyan Desert covers parts of southwestern Egypt, eastern Libya, and northwestern Sudan.  The region consists primarily of sand dunes, course, stony plains, and plateaus of bare rock.  Although its hot, dry climate is harsher and more forbidding than that of Egypt’s eastern deserts, the oases of this region were known in ancient times for their wines and agricultural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YAN DESERT</a:t>
            </a:r>
            <a:endParaRPr b="0" lang="en-US" sz="4400" spc="-1" strike="noStrike">
              <a:solidFill>
                <a:srgbClr val="000000"/>
              </a:solidFill>
              <a:latin typeface="Arial"/>
            </a:endParaRPr>
          </a:p>
        </p:txBody>
      </p:sp>
      <p:pic>
        <p:nvPicPr>
          <p:cNvPr id="62" name="" descr=""/>
          <p:cNvPicPr/>
          <p:nvPr/>
        </p:nvPicPr>
        <p:blipFill>
          <a:blip r:embed="rId1"/>
          <a:stretch/>
        </p:blipFill>
        <p:spPr>
          <a:xfrm>
            <a:off x="762120" y="1371600"/>
            <a:ext cx="7619760" cy="498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ttling Ancient Egypt</a:t>
            </a:r>
            <a:endParaRPr b="0" lang="en-US" sz="3200" spc="-1" strike="noStrike">
              <a:solidFill>
                <a:srgbClr val="000000"/>
              </a:solidFill>
              <a:latin typeface="Arial"/>
            </a:endParaRPr>
          </a:p>
        </p:txBody>
      </p:sp>
      <p:sp>
        <p:nvSpPr>
          <p:cNvPr id="64" name=""/>
          <p:cNvSpPr/>
          <p:nvPr/>
        </p:nvSpPr>
        <p:spPr>
          <a:xfrm>
            <a:off x="685800" y="914400"/>
            <a:ext cx="601992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st Egyptians settled along the Nile River.</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33520" y="1752480"/>
            <a:ext cx="7619760" cy="1059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Nile provides farmable soil from when it flooded, water for bathing/drinking/etc., fish, ducks, geese, and papyru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914400" y="33526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533520" y="3048120"/>
            <a:ext cx="8381880" cy="1334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 shaduf is a device Egyptian farmers used to irrigate their cultivated fields.  It was important because they could water their plants with fresh water to keep their fields ferti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279440" y="7122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52280" y="4419720"/>
            <a:ext cx="899172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0000"/>
                </a:solidFill>
                <a:latin typeface="Arial"/>
              </a:rPr>
              <a:t>The Egyptians did not have to worry about fighting many enemies because they were protected on 3 sides by deserts and they had plenty of farmland and did not have to conquer others to get mor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685800" y="5410080"/>
            <a:ext cx="792468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iver flooded predictably</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relying on a ri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ich soil near river</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dry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tected by deserts</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have to irrig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enty of resourc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80880" y="609480"/>
            <a:ext cx="8763120" cy="500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did most people in Egypt settl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resources the Nile provided/gave to the Egyptians?</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 shaduf and why was it important to Egyptian farm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wo reasons why the Egyptians did not have to worry about fighting many enemies?</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1125"/>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are the positive and negative aspects of settling in Egy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676520" y="457200"/>
            <a:ext cx="5333760" cy="6172200"/>
          </a:xfrm>
          <a:prstGeom prst="rect">
            <a:avLst/>
          </a:prstGeom>
          <a:ln w="0">
            <a:noFill/>
          </a:ln>
        </p:spPr>
      </p:pic>
      <p:sp>
        <p:nvSpPr>
          <p:cNvPr id="73" name=""/>
          <p:cNvSpPr/>
          <p:nvPr/>
        </p:nvSpPr>
        <p:spPr>
          <a:xfrm flipH="1">
            <a:off x="4419720" y="1371600"/>
            <a:ext cx="1676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FICATION OF EGYPT</a:t>
            </a:r>
            <a:endParaRPr b="0" lang="en-US" sz="4400" spc="-1" strike="noStrike">
              <a:solidFill>
                <a:srgbClr val="000000"/>
              </a:solidFill>
              <a:latin typeface="Arial"/>
            </a:endParaRPr>
          </a:p>
        </p:txBody>
      </p:sp>
      <p:pic>
        <p:nvPicPr>
          <p:cNvPr id="75" name="" descr="View Image">
            <a:hlinkClick r:id="rId1"/>
          </p:cNvPr>
          <p:cNvPicPr/>
          <p:nvPr/>
        </p:nvPicPr>
        <p:blipFill>
          <a:blip r:embed="rId2"/>
          <a:stretch/>
        </p:blipFill>
        <p:spPr>
          <a:xfrm>
            <a:off x="1143000" y="1371600"/>
            <a:ext cx="6781680" cy="51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TS of EGYP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PPER EGYPT</a:t>
            </a:r>
            <a:endParaRPr b="0" lang="en-US" sz="2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thern Egy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 500 miles l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cataract northward to the Nile Delta</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OWER EGYPT</a:t>
            </a:r>
            <a:endParaRPr b="0" lang="en-US" sz="2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ern Egy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the Nile Del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miles long but very w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1388880"/>
            <a:ext cx="8534520" cy="42087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ich Egyptian king united Upper Egypt and Lower Egypt and which part of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ypt was he fro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was the title given to the king/ruler of Egyp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did the Egyptians believe their ruler w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were the two responsibilities of the pharao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ncient Egypt was ruled by over thirty different dynasties.  What is a dynasty?</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1" name=""/>
          <p:cNvSpPr/>
          <p:nvPr/>
        </p:nvSpPr>
        <p:spPr>
          <a:xfrm>
            <a:off x="68580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armer united Upper and Lower Egypt and he was from Upper Egypt</a:t>
            </a:r>
            <a:endParaRPr b="0" lang="en-US" sz="1800" spc="-1" strike="noStrike">
              <a:solidFill>
                <a:srgbClr val="000000"/>
              </a:solidFill>
              <a:latin typeface="Arial"/>
            </a:endParaRPr>
          </a:p>
        </p:txBody>
      </p:sp>
      <p:sp>
        <p:nvSpPr>
          <p:cNvPr id="82" name=""/>
          <p:cNvSpPr/>
          <p:nvPr/>
        </p:nvSpPr>
        <p:spPr>
          <a:xfrm>
            <a:off x="685800" y="289548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king/ruler of Egypt was known as the “Pharaoh”</a:t>
            </a:r>
            <a:endParaRPr b="0" lang="en-US" sz="1800" spc="-1" strike="noStrike">
              <a:solidFill>
                <a:srgbClr val="000000"/>
              </a:solidFill>
              <a:latin typeface="Arial"/>
            </a:endParaRPr>
          </a:p>
        </p:txBody>
      </p:sp>
      <p:sp>
        <p:nvSpPr>
          <p:cNvPr id="83" name=""/>
          <p:cNvSpPr/>
          <p:nvPr/>
        </p:nvSpPr>
        <p:spPr>
          <a:xfrm>
            <a:off x="685800" y="37339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Egyptians believed their ruler was a god</a:t>
            </a:r>
            <a:endParaRPr b="0" lang="en-US" sz="1800" spc="-1" strike="noStrike">
              <a:solidFill>
                <a:srgbClr val="000000"/>
              </a:solidFill>
              <a:latin typeface="Arial"/>
            </a:endParaRPr>
          </a:p>
        </p:txBody>
      </p:sp>
      <p:sp>
        <p:nvSpPr>
          <p:cNvPr id="84" name=""/>
          <p:cNvSpPr/>
          <p:nvPr/>
        </p:nvSpPr>
        <p:spPr>
          <a:xfrm>
            <a:off x="762120" y="44956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keep Egyptian society in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protect Egypt from its enemies</a:t>
            </a:r>
            <a:endParaRPr b="0" lang="en-US" sz="1800" spc="-1" strike="noStrike">
              <a:solidFill>
                <a:srgbClr val="000000"/>
              </a:solidFill>
              <a:latin typeface="Arial"/>
            </a:endParaRPr>
          </a:p>
        </p:txBody>
      </p:sp>
      <p:sp>
        <p:nvSpPr>
          <p:cNvPr id="85" name=""/>
          <p:cNvSpPr/>
          <p:nvPr/>
        </p:nvSpPr>
        <p:spPr>
          <a:xfrm>
            <a:off x="1066680" y="56386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 dynasty is a series of rulers from the sam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ographic Features of Egypt</a:t>
            </a:r>
            <a:endParaRPr b="0" lang="en-US" sz="4000" spc="-1" strike="noStrike">
              <a:solidFill>
                <a:srgbClr val="000000"/>
              </a:solidFill>
              <a:latin typeface="Arial"/>
            </a:endParaRPr>
          </a:p>
        </p:txBody>
      </p:sp>
      <p:pic>
        <p:nvPicPr>
          <p:cNvPr id="44" name="" descr=""/>
          <p:cNvPicPr/>
          <p:nvPr/>
        </p:nvPicPr>
        <p:blipFill>
          <a:blip r:embed="rId1"/>
          <a:stretch/>
        </p:blipFill>
        <p:spPr>
          <a:xfrm>
            <a:off x="457200" y="1295280"/>
            <a:ext cx="8381880" cy="487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NGDOMS</a:t>
            </a:r>
            <a:endParaRPr b="0" lang="en-US" sz="4400" spc="-1" strike="noStrike">
              <a:solidFill>
                <a:srgbClr val="000000"/>
              </a:solidFill>
              <a:latin typeface="Arial"/>
            </a:endParaRPr>
          </a:p>
        </p:txBody>
      </p:sp>
      <p:graphicFrame>
        <p:nvGraphicFramePr>
          <p:cNvPr id="87" name=""/>
          <p:cNvGraphicFramePr/>
          <p:nvPr/>
        </p:nvGraphicFramePr>
        <p:xfrm>
          <a:off x="228600" y="1600200"/>
          <a:ext cx="8763120" cy="4402080"/>
        </p:xfrm>
        <a:graphic>
          <a:graphicData uri="http://schemas.openxmlformats.org/drawingml/2006/table">
            <a:tbl>
              <a:tblPr/>
              <a:tblGrid>
                <a:gridCol w="1981080"/>
                <a:gridCol w="1676520"/>
                <a:gridCol w="1600200"/>
                <a:gridCol w="1905120"/>
                <a:gridCol w="1600200"/>
              </a:tblGrid>
              <a:tr h="8110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historic Egyp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Kingd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d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do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00 – 270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86 – 218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5 – 165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70 – 107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ck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of Pyram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of Reunific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s Golden A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8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t Achievemen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ig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oglyph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h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yram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me strong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ai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ment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literature, ar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archite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me a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ld powe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quering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685800"/>
            <a:ext cx="7924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UBIAN DESE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bian Desert is located in northeast Africa, between the Nile River and the Red Sea.  It is an approximately 97,000 square mile region of the Sahara Desert.  Primarily a sandstone plateau, this arid (dry) region has numerous wadis, or dry watercourses, which fill with water that flows to the Nile during periods of heavy rainfall.  The ancient Kushites mined copper and gold from this desert, and traded these metals to Egypt for linen and g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BIAN DESERT</a:t>
            </a:r>
            <a:endParaRPr b="0" lang="en-US" sz="4400" spc="-1" strike="noStrike">
              <a:solidFill>
                <a:srgbClr val="000000"/>
              </a:solidFill>
              <a:latin typeface="Arial"/>
            </a:endParaRPr>
          </a:p>
        </p:txBody>
      </p:sp>
      <p:pic>
        <p:nvPicPr>
          <p:cNvPr id="47" name="" descr=""/>
          <p:cNvPicPr/>
          <p:nvPr/>
        </p:nvPicPr>
        <p:blipFill>
          <a:blip r:embed="rId1"/>
          <a:stretch/>
        </p:blipFill>
        <p:spPr>
          <a:xfrm>
            <a:off x="1066680" y="1295280"/>
            <a:ext cx="7239240" cy="48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609480"/>
            <a:ext cx="8001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ILE DEL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lta of the Nile River is a triangle shaped region located north of Cairo, in northeastern Egypt.  Originally, as many as seven branches of the Nile wound through the delta.  The delta contains sixty percent of Egypt’s cultivated land (farmland), large areas of marshy wetlands, and shallow lakes.  During ancient times, the Egyptians took advantage of the region’s rich soil, gentle winds, and level landscape to develop an extremely productive agricultural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LE DELTA</a:t>
            </a:r>
            <a:endParaRPr b="0" lang="en-US" sz="4400" spc="-1" strike="noStrike">
              <a:solidFill>
                <a:srgbClr val="000000"/>
              </a:solidFill>
              <a:latin typeface="Arial"/>
            </a:endParaRPr>
          </a:p>
        </p:txBody>
      </p:sp>
      <p:pic>
        <p:nvPicPr>
          <p:cNvPr id="50" name="" descr=""/>
          <p:cNvPicPr/>
          <p:nvPr/>
        </p:nvPicPr>
        <p:blipFill>
          <a:blip r:embed="rId1"/>
          <a:stretch/>
        </p:blipFill>
        <p:spPr>
          <a:xfrm>
            <a:off x="1523880" y="1219320"/>
            <a:ext cx="6324840" cy="542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990720"/>
            <a:ext cx="80773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RABIAN DESE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abian Desert is the eastern desert of Egypt.  It runs from the Nile River in the west to the Red Sea and the Gulf of Suez in the east.  The desert is mountainous and rutted by deep, dry riverbeds.  The ancient Egyptians used its abundant quarries of granite, feldspar, and other materials for many of their building pro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ABIAN DESERT</a:t>
            </a:r>
            <a:endParaRPr b="0" lang="en-US" sz="4400" spc="-1" strike="noStrike">
              <a:solidFill>
                <a:srgbClr val="000000"/>
              </a:solidFill>
              <a:latin typeface="Arial"/>
            </a:endParaRPr>
          </a:p>
        </p:txBody>
      </p:sp>
      <p:pic>
        <p:nvPicPr>
          <p:cNvPr id="53" name="" descr=""/>
          <p:cNvPicPr/>
          <p:nvPr/>
        </p:nvPicPr>
        <p:blipFill>
          <a:blip r:embed="rId1"/>
          <a:stretch/>
        </p:blipFill>
        <p:spPr>
          <a:xfrm>
            <a:off x="609480" y="1219320"/>
            <a:ext cx="7772400" cy="49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152280"/>
            <a:ext cx="838224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ILE RI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ile River is the longest river in the world, stretching 4,160 miles.  It flows northward from its headstream in Central Africa to its delta on the Mediterranean Sea.  The Nile runs through parts of Egypt, Sudan, Ethiopia, Kenya, Uganda, Rwanda, Burundi, and Zaire.  At six different places along the Nile, crystalline rocks form cataracts, or stretches of rapids and waterfalls that are not navigable.  According to the ancient Greek historian Herodotus, Egypt was “the gift of the Nile” because its waters supported large scale agriculture, made transportation easier, and provided a variety of edible plants and an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4:19:53Z</dcterms:created>
  <dc:creator>gehadde</dc:creator>
  <dc:description/>
  <dc:language>en-US</dc:language>
  <cp:lastModifiedBy>gehadde</cp:lastModifiedBy>
  <dcterms:modified xsi:type="dcterms:W3CDTF">2011-11-11T14:21:21Z</dcterms:modified>
  <cp:revision>2</cp:revision>
  <dc:subject/>
  <dc:title>Slide 1</dc:title>
</cp:coreProperties>
</file>